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4B1-DB03-4E7C-B438-88250383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436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F8-50E6-4D61-B7A7-B5A1C2E8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44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CEF-BFB9-4095-ABE6-98EE9D3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71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25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71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25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6B5-59F9-47E3-A0CB-25C43741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D46-9844-4127-B5FF-D3B200D0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FB27-E4F6-4A66-A1F9-3F53DE1B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D8F1-A38A-44AC-B683-47488C1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BF5-2050-40FD-9E5A-078AE50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28A3-7BB8-49EE-A755-D49EB90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8001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BDA3-AFCC-4541-A43E-9DA7E02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7B51-3C8A-406F-B90E-2E2E007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F69-B6B4-43D5-A3A6-6C74ABD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6144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4BE0-4CBC-4211-BD00-871073A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FA3-4B5D-4733-A667-52613C5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401436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CA2-BEBE-412A-B9C8-D91A785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6144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7298-472A-4780-A5A5-89EB0316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71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2560" y="190512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71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2560" y="401436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EC1-CE25-4D6C-A6F5-6F883275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CBF-B2A8-4AB2-AD0F-06FCB98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29B-4710-4207-BF78-11AFF1FB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9E0-6C1A-4B55-97B9-A18F04B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8001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2AA-3EBF-4E4D-A71A-01B0810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C69-08CF-4C0D-9650-577CAD3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440" y="401436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E51-6437-48E6-9F2A-11D80106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440" y="190512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436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FD9-3A9D-4D25-89B0-878538B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bc2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9852120" y="171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" descr="TSL_RGB_vaaka"/>
          <p:cNvPicPr/>
          <p:nvPr/>
        </p:nvPicPr>
        <p:blipFill>
          <a:blip r:embed="rId2"/>
          <a:stretch/>
        </p:blipFill>
        <p:spPr>
          <a:xfrm>
            <a:off x="684360" y="5734080"/>
            <a:ext cx="2350800" cy="6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c74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3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3028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854-1E64-4A82-AE45-728C438B793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e2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TSL_RGB_10cm"/>
          <p:cNvPicPr/>
          <p:nvPr/>
        </p:nvPicPr>
        <p:blipFill>
          <a:blip r:embed="rId2"/>
          <a:stretch/>
        </p:blipFill>
        <p:spPr>
          <a:xfrm>
            <a:off x="304920" y="4724280"/>
            <a:ext cx="2344680" cy="173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c74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3524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6388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031A-0ADC-4443-BD5C-BFE2E213BDA8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BackgroundBaseCu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1 copy.png"/>
          <p:cNvPicPr/>
          <p:nvPr/>
        </p:nvPicPr>
        <p:blipFill>
          <a:blip r:embed="rId2"/>
          <a:stretch/>
        </p:blipFill>
        <p:spPr>
          <a:xfrm>
            <a:off x="5553000" y="3076560"/>
            <a:ext cx="2992680" cy="299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WorldSkillsInternationalLogo.png"/>
          <p:cNvPicPr/>
          <p:nvPr/>
        </p:nvPicPr>
        <p:blipFill>
          <a:blip r:embed="rId3"/>
          <a:stretch/>
        </p:blipFill>
        <p:spPr>
          <a:xfrm>
            <a:off x="341280" y="266760"/>
            <a:ext cx="1405080" cy="120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Logo.png"/>
          <p:cNvPicPr/>
          <p:nvPr/>
        </p:nvPicPr>
        <p:blipFill>
          <a:blip r:embed="rId4"/>
          <a:stretch/>
        </p:blipFill>
        <p:spPr>
          <a:xfrm>
            <a:off x="2030400" y="264960"/>
            <a:ext cx="140508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WorldSkillsPremierExperienceLogo.png"/>
          <p:cNvPicPr/>
          <p:nvPr/>
        </p:nvPicPr>
        <p:blipFill>
          <a:blip r:embed="rId5"/>
          <a:stretch/>
        </p:blipFill>
        <p:spPr>
          <a:xfrm>
            <a:off x="6118200" y="293760"/>
            <a:ext cx="2741760" cy="184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6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Learning in the workplace </a:t>
            </a:r>
            <a:br>
              <a:rPr sz="3600"/>
            </a:br>
            <a:r>
              <a:rPr b="0" lang="fi-FI" sz="36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 a union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19160" y="2209680"/>
            <a:ext cx="5562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Central Organisation of Finnish Trade Unions S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SL WEA Workers´ Educational Association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00000"/>
                </a:solidFill>
                <a:latin typeface="Arial"/>
              </a:rPr>
              <a:t>Ms Mervi Ylit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00000"/>
                </a:solidFill>
                <a:latin typeface="Arial"/>
              </a:rPr>
              <a:t>Training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The Finnish national Noste programme in 2003-2009</a:t>
            </a: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economy based on 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ation to prolong working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in the changing world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ing those, who lack the most in the national education system with a low basic education and no formal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Competence pilots – Education and Training councilo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utreach and to distribu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workers at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Unions and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d region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training i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Competence pilots – Education and Training councilo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 guide and council the individuals to become aware of their skills, lifelong learning, education, informal, non-formal learning, vocational qualifications in NV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 encourage and support and to walk by side, hand i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Skills and best pract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ow to avoid making employees  and individuals feel guilty for not having managed to get a qual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Communication ski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c74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 encourage and empower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c74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 help to become aware and to raise self-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c74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 escort in contacting and finding information about training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Best pract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ooperation between educational institutions and trade union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king education and training a more visible item in the field of interest representation and organisational work in trade 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etworking with the education providers, authorities, communities, trade unions and workers´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Further challe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1628640"/>
            <a:ext cx="80010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ommitment of affiliated union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cknowledging the role of the Education and Training Counc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pply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operating with shop stewards, health and safety delegates, local union branches and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istributing materials a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cognition and official status of the Education and Training Councilor either by legislation or collectiv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ffffff"/>
                </a:solidFill>
                <a:latin typeface="Arial"/>
              </a:rPr>
              <a:t>Evaluation outcomes in Nos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280"/>
            <a:ext cx="8001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impact of the programme was more qualitative than quantitative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ise of competences and motivation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ise of self-confidence and the feeling of security in working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est practices were found in tripartite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w approach in networking between employees and training 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2002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need of support and counciling with learning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38:31Z</dcterms:created>
  <dc:creator>harri heikkilä</dc:creator>
  <dc:description/>
  <dc:language>en-US</dc:language>
  <cp:lastModifiedBy>Hire Tech Solutions</cp:lastModifiedBy>
  <dcterms:modified xsi:type="dcterms:W3CDTF">2011-10-07T09:06:11Z</dcterms:modified>
  <cp:revision>46</cp:revision>
  <dc:subject/>
  <dc:title>PowerPoint Presentation</dc:title>
</cp:coreProperties>
</file>